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BEB-5207-4E55-B004-61BE357D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D86-8242-490C-B42A-F77059A48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CAF-4C57-46C7-9B8A-EFE384DD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0CCE-09AE-4E42-9455-97FA28C9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E30-52E2-446E-A4D0-E873F4A7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F1B0-69A5-415B-96C5-C8823536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3F11-E500-4F91-AEA4-B96C84753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E93-62F5-49C9-953C-7C595AC9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540-F25F-48F7-8C15-FF54C1196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45F-186D-4B1C-A011-1F5E6286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BCE5-C096-4676-B40A-6BB88314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536-CB9F-4C5C-B883-A4A77EC2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0A2-EA44-4409-B014-26D70E8F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E4D-D63A-4133-8613-5567909D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4434-89F9-4291-9FA5-047B6791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5C0C-BE9F-4443-AED7-664A77C2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8E1-DDAE-42CF-996E-43B9AC5D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536-7F8F-4BF6-A41F-8A7E90A2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C83-CC33-4993-9FFA-E3443765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F1C4-4A4A-45F0-905A-3AA3BF02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437-9A7D-45F9-BA35-B25EAAD0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21B-99C0-4A0B-BAA6-99BBBF6B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8E8-9210-4AD0-BCA8-89550B27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FFF-4988-46AA-B291-5510F80C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4775-5CBF-49E9-8FA8-FD34F269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BED-4391-4D7C-A4EF-76CB3E2A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376-2FF0-4548-B1B4-CC1BE607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640-98F1-4EE0-A9FB-0516DD3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896-59C2-46AF-882C-0E967E34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69B-BE22-463B-B6BD-B80B4750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7E0-8428-4C16-AF02-4B2720F6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545-300E-4CFE-B597-F698CE10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D26-E18D-450A-AAA2-04AF1EAB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6F7-3012-4CD2-B6FC-5023BA2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F94-F7C6-45DE-987C-2EF0604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BED-B7DE-48A0-99C3-BDFFB76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731-8336-4FDF-98F4-1681EDFD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1A7-A87A-4FC3-A3F4-F3C6497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2EF3-C39E-4E99-A9A5-D5AF5D2C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marca.sedimax.com/ekmps/shops/sedimax/images/vh_75505_l.jpg&amp;imgrefurl=http://www.marca.sedimax.com/index.asp%3Ffunction%3DDISPLAYPRODUCT%26productid%3D5&amp;h=230&amp;w=230&amp;sz=28&amp;tbnid=VMQeQW1LxHvgtM:&amp;tbnh=103&amp;tbnw=103&amp;hl=es&amp;start=2&amp;prev=/images%3Fq%3Dcaja%2Bde%2Bchocolates%26svnum%3D10%26hl%3Des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valonwine.com/white-wine-glass.jpg&amp;imgrefurl=http://avalonwine.com/White-Wine-article.php&amp;h=285&amp;w=148&amp;sz=8&amp;tbnid=CMYwocfejw5ztM:&amp;tbnh=110&amp;tbnw=57&amp;hl=en&amp;start=7&amp;prev=/images%3Fq%3Dwine%2Bglass%26svnum%3D10%26hl%3Den%26lr%3Dlang_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rysbeegarden.com/catalog/large_photos/014.jpg&amp;imgrefurl=http://www.marysbeegarden.com/catalog/beejar.html&amp;h=185&amp;w=149&amp;sz=7&amp;tbnid=45fntUriEvFfMM:&amp;tbnh=96&amp;tbnw=77&amp;hl=en&amp;start=5&amp;prev=/images%3Fq%3Djar%2Bof%2Bhoney%26svnum%3D10%26hl%3Den%26lr%3Dlang_en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servicios.laverdad.es/gastronomia/fotos/curiosidad130405.jpg&amp;imgrefurl=http://servicios.laverdad.es/gastronomia/curiosidades_almirez130405.html&amp;h=190&amp;w=170&amp;sz=12&amp;tbnid=syty41TkiKwegM:&amp;tbnh=97&amp;tbnw=86&amp;hl=es&amp;start=4&amp;prev=/images%3Fq%3Dbolsa%2Bde%2Bpatatas%2Bfritas%26svnum%3D10%26hl%3Des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g.timeinc.net/realsimple/images/RS_KITCHEN_carve_ham_04.jpg&amp;imgrefurl=http://food.aol.com/food/channel/knowhow/equipmentessentials/contentgallery/0,18852,1028152-4,00.html%3Fpagenum%3D4&amp;h=195&amp;w=188&amp;sz=12&amp;tbnid=3KoPZLPLlMz3yM:&amp;tbnh=98&amp;tbnw=94&amp;hl=en&amp;start=52&amp;prev=/images%3Fq%3Dslice%2Bof%2Bham%26start%3D40%26svnum%3D10%26hl%3Den%26lr%3Dlang_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.uk/imgres?imgurl=http://img.timeinc.net/realsimple/images/RS_KITCHEN_carve_ham_04.jpg&amp;imgrefurl=http://food.aol.com/food/channel/knowhow/equipmentessentials/contentgallery/0,18852,1028152-4,00.html%3Fpagenum%3D4&amp;h=195&amp;w=188&amp;sz=12&amp;tbnid=3KoPZLPLlMz3yM:&amp;tbnh=98&amp;tbnw=94&amp;hl=en&amp;start=52&amp;prev=/images%3Fq%3Dslice%2Bof%2Bham%26start%3D40%26svnum%3D10%26hl%3Den%26lr%3Dlang_en%26sa%3D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es/imgres?imgurl=http://servicios.laverdad.es/gastronomia/fotos/curiosidad130405.jpg&amp;imgrefurl=http://servicios.laverdad.es/gastronomia/curiosidades_almirez130405.html&amp;h=190&amp;w=170&amp;sz=12&amp;tbnid=syty41TkiKwegM:&amp;tbnh=97&amp;tbnw=86&amp;hl=es&amp;start=4&amp;prev=/images%3Fq%3Dbolsa%2Bde%2Bpatatas%2Bfritas%26svnum%3D10%26hl%3Des%26lr%3D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.uk/imgres?imgurl=http://www.marysbeegarden.com/catalog/large_photos/014.jpg&amp;imgrefurl=http://www.marysbeegarden.com/catalog/beejar.html&amp;h=185&amp;w=149&amp;sz=7&amp;tbnid=45fntUriEvFfMM:&amp;tbnh=96&amp;tbnw=77&amp;hl=en&amp;start=5&amp;prev=/images%3Fq%3Djar%2Bof%2Bhoney%26svnum%3D10%26hl%3Den%26lr%3Dlang_en%26sa%3DN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.uk/imgres?imgurl=http://avalonwine.com/white-wine-glass.jpg&amp;imgrefurl=http://avalonwine.com/White-Wine-article.php&amp;h=285&amp;w=148&amp;sz=8&amp;tbnid=CMYwocfejw5ztM:&amp;tbnh=110&amp;tbnw=57&amp;hl=en&amp;start=7&amp;prev=/images%3Fq%3Dwine%2Bglass%26svnum%3D10%26hl%3Den%26lr%3Dlang_en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images.google.es/imgres?imgurl=http://www.marca.sedimax.com/ekmps/shops/sedimax/images/vh_75505_l.jpg&amp;imgrefurl=http://www.marca.sedimax.com/index.asp%3Ffunction%3DDISPLAYPRODUCT%26productid%3D5&amp;h=230&amp;w=230&amp;sz=28&amp;tbnid=VMQeQW1LxHvgtM:&amp;tbnh=103&amp;tbnw=103&amp;hl=es&amp;start=2&amp;prev=/images%3Fq%3Dcaja%2Bde%2Bchocolates%26svnum%3D10%26hl%3Des%26lr%3D" TargetMode="External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2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500040"/>
            <a:ext cx="750096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lo que signif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caram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errito c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batido de f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calam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caj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vh_75505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28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vas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white-wine-gla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205000"/>
            <a:ext cx="2167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lat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4526"/>
          <p:cNvPicPr/>
          <p:nvPr/>
        </p:nvPicPr>
        <p:blipFill>
          <a:blip r:embed="rId1"/>
          <a:stretch/>
        </p:blipFill>
        <p:spPr>
          <a:xfrm>
            <a:off x="3708360" y="2276640"/>
            <a:ext cx="18874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bote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2276640"/>
            <a:ext cx="2774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tub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marties"/>
          <p:cNvPicPr/>
          <p:nvPr/>
        </p:nvPicPr>
        <p:blipFill>
          <a:blip r:embed="rId1"/>
          <a:stretch/>
        </p:blipFill>
        <p:spPr>
          <a:xfrm>
            <a:off x="2700360" y="2133720"/>
            <a:ext cx="29941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ols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uriosidad1304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060640"/>
            <a:ext cx="3011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troz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RS_KITCHEN_carve_ham_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89000"/>
            <a:ext cx="2973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docen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oc26b"/>
          <p:cNvPicPr/>
          <p:nvPr/>
        </p:nvPicPr>
        <p:blipFill>
          <a:blip r:embed="rId1"/>
          <a:stretch/>
        </p:blipFill>
        <p:spPr>
          <a:xfrm>
            <a:off x="1547640" y="1773360"/>
            <a:ext cx="6147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doc26b"/>
          <p:cNvPicPr/>
          <p:nvPr/>
        </p:nvPicPr>
        <p:blipFill>
          <a:blip r:embed="rId1"/>
          <a:stretch/>
        </p:blipFill>
        <p:spPr>
          <a:xfrm>
            <a:off x="6885000" y="4292640"/>
            <a:ext cx="2259000" cy="15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RS_KITCHEN_carve_ham_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076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uriosidad1304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076640"/>
            <a:ext cx="15382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marties"/>
          <p:cNvPicPr/>
          <p:nvPr/>
        </p:nvPicPr>
        <p:blipFill>
          <a:blip r:embed="rId6"/>
          <a:stretch/>
        </p:blipFill>
        <p:spPr>
          <a:xfrm>
            <a:off x="1908000" y="4076640"/>
            <a:ext cx="1565280" cy="16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1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3860640"/>
            <a:ext cx="1503360" cy="18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4526"/>
          <p:cNvPicPr/>
          <p:nvPr/>
        </p:nvPicPr>
        <p:blipFill>
          <a:blip r:embed="rId9"/>
          <a:stretch/>
        </p:blipFill>
        <p:spPr>
          <a:xfrm>
            <a:off x="7451640" y="2421000"/>
            <a:ext cx="13669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white-wine-glas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2421000"/>
            <a:ext cx="1167120" cy="151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vh_75505_l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51280" y="2276640"/>
            <a:ext cx="1452600" cy="151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botella_leche"/>
          <p:cNvPicPr/>
          <p:nvPr/>
        </p:nvPicPr>
        <p:blipFill>
          <a:blip r:embed="rId14"/>
          <a:stretch/>
        </p:blipFill>
        <p:spPr>
          <a:xfrm>
            <a:off x="2124000" y="2060640"/>
            <a:ext cx="1387440" cy="186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80px-botella_de_coca-cola"/>
          <p:cNvPicPr/>
          <p:nvPr/>
        </p:nvPicPr>
        <p:blipFill>
          <a:blip r:embed="rId15"/>
          <a:stretch/>
        </p:blipFill>
        <p:spPr>
          <a:xfrm>
            <a:off x="468360" y="2060640"/>
            <a:ext cx="127800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alamares_tapas"/>
          <p:cNvPicPr/>
          <p:nvPr/>
        </p:nvPicPr>
        <p:blipFill>
          <a:blip r:embed="rId16"/>
          <a:stretch/>
        </p:blipFill>
        <p:spPr>
          <a:xfrm>
            <a:off x="6516720" y="189000"/>
            <a:ext cx="2376360" cy="151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alamares_tapas"/>
          <p:cNvPicPr/>
          <p:nvPr/>
        </p:nvPicPr>
        <p:blipFill>
          <a:blip r:embed="rId17"/>
          <a:stretch/>
        </p:blipFill>
        <p:spPr>
          <a:xfrm>
            <a:off x="4716360" y="620640"/>
            <a:ext cx="1728720" cy="110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alamares_tapas"/>
          <p:cNvPicPr/>
          <p:nvPr/>
        </p:nvPicPr>
        <p:blipFill>
          <a:blip r:embed="rId18"/>
          <a:stretch/>
        </p:blipFill>
        <p:spPr>
          <a:xfrm>
            <a:off x="3564000" y="1052640"/>
            <a:ext cx="1008000" cy="6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1552954013_24bb99b38c"/>
          <p:cNvPicPr/>
          <p:nvPr/>
        </p:nvPicPr>
        <p:blipFill>
          <a:blip r:embed="rId19"/>
          <a:stretch/>
        </p:blipFill>
        <p:spPr>
          <a:xfrm>
            <a:off x="1763640" y="692280"/>
            <a:ext cx="1728720" cy="105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SW-001_200x200"/>
          <p:cNvPicPr/>
          <p:nvPr/>
        </p:nvPicPr>
        <p:blipFill>
          <a:blip r:embed="rId20"/>
          <a:stretch/>
        </p:blipFill>
        <p:spPr>
          <a:xfrm>
            <a:off x="0" y="0"/>
            <a:ext cx="1692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0" descr="doc26b"/>
          <p:cNvPicPr/>
          <p:nvPr/>
        </p:nvPicPr>
        <p:blipFill>
          <a:blip r:embed="rId1"/>
          <a:stretch/>
        </p:blipFill>
        <p:spPr>
          <a:xfrm>
            <a:off x="2411280" y="1700280"/>
            <a:ext cx="4896000" cy="32637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0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how to describe quantiti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write descriptions of various quant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isten to requests for i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0" descr="RS_KITCHEN_carve_ham_04"/>
          <p:cNvPicPr/>
          <p:nvPr/>
        </p:nvPicPr>
        <p:blipFill>
          <a:blip r:embed="rId1"/>
          <a:stretch/>
        </p:blipFill>
        <p:spPr>
          <a:xfrm>
            <a:off x="755640" y="404640"/>
            <a:ext cx="297324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9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08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08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0" descr="14526"/>
          <p:cNvPicPr/>
          <p:nvPr/>
        </p:nvPicPr>
        <p:blipFill>
          <a:blip r:embed="rId1"/>
          <a:stretch/>
        </p:blipFill>
        <p:spPr>
          <a:xfrm>
            <a:off x="6516720" y="3141720"/>
            <a:ext cx="188748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9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08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08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1" descr="SW-001_200x200"/>
          <p:cNvPicPr/>
          <p:nvPr/>
        </p:nvPicPr>
        <p:blipFill>
          <a:blip r:embed="rId1"/>
          <a:stretch/>
        </p:blipFill>
        <p:spPr>
          <a:xfrm>
            <a:off x="1979640" y="5048280"/>
            <a:ext cx="1871640" cy="1809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Calamares_tapas"/>
          <p:cNvPicPr/>
          <p:nvPr/>
        </p:nvPicPr>
        <p:blipFill>
          <a:blip r:embed="rId2"/>
          <a:stretch/>
        </p:blipFill>
        <p:spPr>
          <a:xfrm>
            <a:off x="0" y="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8" descr="MCj03499950000[1]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9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08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8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900000" y="620640"/>
            <a:ext cx="7488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litro de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otella de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arra de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ubo de crema bronce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olsa de patatas 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lata de sardin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bote de m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rozo de 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aquete de gal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caja de t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755640" y="765000"/>
          <a:ext cx="7848720" cy="4330800"/>
        </p:xfrm>
        <a:graphic>
          <a:graphicData uri="http://schemas.openxmlformats.org/drawingml/2006/table">
            <a:tbl>
              <a:tblPr/>
              <a:tblGrid>
                <a:gridCol w="865080"/>
                <a:gridCol w="2225880"/>
                <a:gridCol w="2795400"/>
                <a:gridCol w="196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5"/>
          <p:cNvSpPr/>
          <p:nvPr/>
        </p:nvSpPr>
        <p:spPr>
          <a:xfrm>
            <a:off x="1692360" y="1773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ott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3995640" y="1844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mon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9"/>
          <p:cNvSpPr/>
          <p:nvPr/>
        </p:nvSpPr>
        <p:spPr>
          <a:xfrm>
            <a:off x="7128000" y="1773360"/>
            <a:ext cx="14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0"/>
          <p:cNvSpPr/>
          <p:nvPr/>
        </p:nvSpPr>
        <p:spPr>
          <a:xfrm>
            <a:off x="1763640" y="256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1"/>
          <p:cNvSpPr/>
          <p:nvPr/>
        </p:nvSpPr>
        <p:spPr>
          <a:xfrm>
            <a:off x="3995640" y="256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icken s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877080" y="2492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1763640" y="3213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half-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3995640" y="3213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5"/>
          <p:cNvSpPr/>
          <p:nvPr/>
        </p:nvSpPr>
        <p:spPr>
          <a:xfrm>
            <a:off x="6804000" y="3141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6"/>
          <p:cNvSpPr/>
          <p:nvPr/>
        </p:nvSpPr>
        <p:spPr>
          <a:xfrm>
            <a:off x="183528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ig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7"/>
          <p:cNvSpPr/>
          <p:nvPr/>
        </p:nvSpPr>
        <p:spPr>
          <a:xfrm>
            <a:off x="3995640" y="3716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xed green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687708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1763640" y="4508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0"/>
          <p:cNvSpPr/>
          <p:nvPr/>
        </p:nvSpPr>
        <p:spPr>
          <a:xfrm>
            <a:off x="3995640" y="4508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1"/>
          <p:cNvSpPr/>
          <p:nvPr/>
        </p:nvSpPr>
        <p:spPr>
          <a:xfrm>
            <a:off x="68770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.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paquete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W-001_200x200"/>
          <p:cNvPicPr/>
          <p:nvPr/>
        </p:nvPicPr>
        <p:blipFill>
          <a:blip r:embed="rId1"/>
          <a:stretch/>
        </p:blipFill>
        <p:spPr>
          <a:xfrm>
            <a:off x="2340000" y="1916280"/>
            <a:ext cx="38876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arra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552954013_24bb99b38c"/>
          <p:cNvPicPr/>
          <p:nvPr/>
        </p:nvPicPr>
        <p:blipFill>
          <a:blip r:embed="rId1"/>
          <a:stretch/>
        </p:blipFill>
        <p:spPr>
          <a:xfrm>
            <a:off x="1979640" y="234936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a tapas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alamares_tapas"/>
          <p:cNvPicPr/>
          <p:nvPr/>
        </p:nvPicPr>
        <p:blipFill>
          <a:blip r:embed="rId1"/>
          <a:stretch/>
        </p:blipFill>
        <p:spPr>
          <a:xfrm>
            <a:off x="3276720" y="2205000"/>
            <a:ext cx="1942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1640" y="549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a media raci</a:t>
            </a:r>
            <a:r>
              <a:rPr b="1" lang="en-GB" sz="6000" spc="-1" strike="noStrike">
                <a:solidFill>
                  <a:srgbClr val="333399"/>
                </a:solidFill>
                <a:latin typeface="Arial"/>
                <a:ea typeface="Arial"/>
              </a:rPr>
              <a:t>ón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alamares_tapas"/>
          <p:cNvPicPr/>
          <p:nvPr/>
        </p:nvPicPr>
        <p:blipFill>
          <a:blip r:embed="rId1"/>
          <a:stretch/>
        </p:blipFill>
        <p:spPr>
          <a:xfrm>
            <a:off x="2556000" y="3284640"/>
            <a:ext cx="36716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71640" y="549360"/>
            <a:ext cx="734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333399"/>
                </a:solidFill>
                <a:latin typeface="Arial"/>
              </a:rPr>
              <a:t>Una ración de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alamares_tapas"/>
          <p:cNvPicPr/>
          <p:nvPr/>
        </p:nvPicPr>
        <p:blipFill>
          <a:blip r:embed="rId1"/>
          <a:stretch/>
        </p:blipFill>
        <p:spPr>
          <a:xfrm>
            <a:off x="1619280" y="2205000"/>
            <a:ext cx="6095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otell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80px-botella_de_coca-cola"/>
          <p:cNvPicPr/>
          <p:nvPr/>
        </p:nvPicPr>
        <p:blipFill>
          <a:blip r:embed="rId1"/>
          <a:stretch/>
        </p:blipFill>
        <p:spPr>
          <a:xfrm>
            <a:off x="3059280" y="2060640"/>
            <a:ext cx="2277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litr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botella_leche"/>
          <p:cNvPicPr/>
          <p:nvPr/>
        </p:nvPicPr>
        <p:blipFill>
          <a:blip r:embed="rId1"/>
          <a:stretch/>
        </p:blipFill>
        <p:spPr>
          <a:xfrm>
            <a:off x="3059280" y="1916280"/>
            <a:ext cx="2509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57:05Z</dcterms:created>
  <dc:creator>Owner1</dc:creator>
  <dc:description/>
  <dc:language>en-US</dc:language>
  <cp:lastModifiedBy>Chris</cp:lastModifiedBy>
  <dcterms:modified xsi:type="dcterms:W3CDTF">2009-03-23T10:54:11Z</dcterms:modified>
  <cp:revision>5</cp:revision>
  <dc:subject/>
  <dc:title>Slide 1</dc:title>
</cp:coreProperties>
</file>